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CF11-D3DA-434B-AEE4-BA81502A5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222F-CD02-4122-8EC4-462C0854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1282-6886-468A-9CD4-68A13C9E8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B3C1-FF16-41B5-BE8A-22A7B6BBA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BBC2-00B7-4AFA-8D69-F3EFDAD1E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3F0B-027D-4ADE-9893-B4933F21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193C-98C4-4BEE-A832-7327F16D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E860-DE8B-467D-BF52-8EFB84B4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830C-10A5-4E57-8741-D712D59F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00CE-7869-4024-BCEE-F3392885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0730-C011-45BB-B7FF-73CD5344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5196-4ED1-4C51-A984-CA6FCDAC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A8FE-934C-4E2F-8321-17B5441F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1EE5-ECB8-418B-9F0A-BF0F4875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ED20-E1CF-4550-B366-E0919473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9C3F-ADCB-4985-A924-51FBD27D6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11C0-93C6-49AD-AC91-DE4EBDA8E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2CA7B-17A7-4126-A65B-657438B7D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8C7F5-01D4-43E6-A8B1-2C586B7E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6F0E1-BF70-4133-95F9-C25545F8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DF92D-C6F1-476C-9112-DDA88B43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0D7FA-8F13-48E9-B8AF-B4453FF3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2685-E6C5-4147-B197-500B03FE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D36DF-93F4-4F29-9F43-A16730CF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09A2C-73EF-4417-B906-951F533A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E69A7-B39C-4139-B3F3-7B8E19AD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91A67-4FE8-4AD2-8E0C-9C6268C5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D4C41-741D-428C-A6E3-0126DC97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110CA-A678-4D0E-85FC-C52266E53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4B0B0-C1E9-4DAC-A22C-45296CA12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E4A18-B386-4701-A0B4-37E40849D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2305E-9467-4F26-8AE4-A3A0DAE4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F3C0E-1E27-4D14-8845-13A24CFB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57B4-4B97-41AA-BA3B-61B4CEAE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E1979-4987-4679-A4F6-F4CC6634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99371-746F-408C-AC91-3EC088CA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8BC18-FC6A-4FDE-8F74-3253782C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6DC81-062F-413F-8C12-E3D00A0C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084D2-0DC6-474C-AD02-0A5E60BD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EE0C8-EE54-4190-9D36-E269E62A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4C82F-DC81-4609-922F-07DAAFA1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4D887-9DEB-4BC4-A10A-B9FB43C06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CB1BD-0384-435E-B558-B46633411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1665F-792A-4A5F-A13B-D84CC4E47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86C1-8728-4BFE-9A3B-9963561C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05E34-203F-43F9-9EBB-807FD1F2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981A0-B961-478A-AB8D-3F11A382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43756-176A-4F6D-8E51-78DC6BA3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8440D-36D3-410A-B05C-57BC20E6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61F96-238F-4192-9B7F-1DD992F9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A5273-AC2C-4F69-94F1-F3F498B2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D151B-A82C-42C4-A9CA-54EC4624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97293-9CAA-467E-BB81-0FE79A70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FE66C-084A-479E-8334-6FFB11E3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81D86-94D2-4AAD-90D5-DB172D424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671B-C2A5-4812-82BC-45B04B22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D1EB7-44F8-4E9A-8175-869722A70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FF02D-D4E3-40D4-B75C-13FF815D4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93137-E34D-433F-8BF9-CB4CA254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0BFCA-79B5-4A9D-ADD2-0FE852F4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7E44C-FB75-4F2D-8B47-45EC2CE3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215C9-00B6-481F-BD0A-6117F50D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8962B-A199-4A55-958B-6A916716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43650-5ECC-441E-9A61-15D6564C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A845F-C47E-4038-BF65-11F56129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D15D0-E660-4DF8-A46B-B838C2DA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871D-C3F8-4D27-BB99-CF4905F9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657C6-CC0B-4EBB-A3DD-5305E276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3FEFE-5C58-44A6-B0DD-D6577AF69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DA2F1-AA0E-43EA-B315-B11E61759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4E40B-C8C2-433B-BFF2-35A9AB551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37292-03A9-4BF8-864D-A39643FE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F8A6B-5F7F-4AE1-BC15-4DBEFD20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57345-9BA1-4F26-9131-1135F3C6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6BA3E-1826-4C6A-9B69-DAFAA90F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068B7-8F16-4306-80C9-2A77A2BF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0A654-18E9-4EB4-A361-007F8297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CA58-825F-4D7C-B09F-3EB76A1B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63197-7373-4518-A3F2-9C02ED88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983F3-7859-463E-BADE-5499977E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F474B-6C39-45F2-A45C-31A6F011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53DF9-09CC-4068-8112-9BCEA272D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0E813-E427-449A-B26A-5FAAE2C53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DBEA-7E24-4892-99CD-6E3A8172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CB6D-C7DF-4C1A-8976-5B106929C08B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직사각형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직사각형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50A8-1CC0-4D7D-B1D4-560863BEA0F7}" type="slidenum">
              <a:rPr b="0" lang="ko-KR" sz="1200" spc="-1" strike="noStrike">
                <a:solidFill>
                  <a:srgbClr val="fffff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D2D9-81FC-4EB0-B4B4-DAF24F3B476D}" type="slidenum">
              <a:rPr b="0" lang="ko-KR" sz="1200" spc="-1" strike="noStrike">
                <a:solidFill>
                  <a:srgbClr val="fffff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9E9C-1DFB-4F6D-8EE2-066060FBBCAA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직사각형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C1F6-4DA9-4B9C-ACEA-B2DC3F4087DB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직사각형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직사각형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직사각형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직사각형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7BEA-F808-45A7-806A-F569D5ACE8DD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직사각형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직사각형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CB02-1F63-476E-9751-12FE12AC8977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2-1. Sample Types &amp; Considering Factors for Collectio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Sample Types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According to the physical conditions ; solid, liquid, or gas samples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According to the representativeness; bulk, partial, or mixed samples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According to the conventional names; Rock, soil, stream water, groundwater, coal, plant, food etc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Considering Factors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The essential requisite for the sample is the </a:t>
            </a:r>
            <a:r>
              <a:rPr b="1" lang="en-US" sz="1700" spc="-1" strike="noStrike">
                <a:solidFill>
                  <a:srgbClr val="ff0000"/>
                </a:solidFill>
                <a:latin typeface="Corbel"/>
              </a:rPr>
              <a:t>representativeness</a:t>
            </a: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 of the object of sampling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Then, consider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Purpose of sampling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Budget  for  the analysis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Characteristics (Types) of the samples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5" descr="VAN_VEEN"/>
          <p:cNvPicPr/>
          <p:nvPr/>
        </p:nvPicPr>
        <p:blipFill>
          <a:blip r:embed="rId1"/>
          <a:stretch/>
        </p:blipFill>
        <p:spPr>
          <a:xfrm>
            <a:off x="179280" y="0"/>
            <a:ext cx="4284720" cy="41371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tools_vanveen_en_162213"/>
          <p:cNvPicPr/>
          <p:nvPr/>
        </p:nvPicPr>
        <p:blipFill>
          <a:blip r:embed="rId2"/>
          <a:stretch/>
        </p:blipFill>
        <p:spPr>
          <a:xfrm>
            <a:off x="179280" y="3860640"/>
            <a:ext cx="3048120" cy="28004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9" descr="alpinevirbracore2"/>
          <p:cNvPicPr/>
          <p:nvPr/>
        </p:nvPicPr>
        <p:blipFill>
          <a:blip r:embed="rId3"/>
          <a:stretch/>
        </p:blipFill>
        <p:spPr>
          <a:xfrm>
            <a:off x="3419640" y="2852640"/>
            <a:ext cx="2743200" cy="35053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1" descr="K-B"/>
          <p:cNvPicPr/>
          <p:nvPr/>
        </p:nvPicPr>
        <p:blipFill>
          <a:blip r:embed="rId4"/>
          <a:stretch/>
        </p:blipFill>
        <p:spPr>
          <a:xfrm>
            <a:off x="6227640" y="836640"/>
            <a:ext cx="25527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3. Sampling Desig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Mostly depends on the distribution of the sediment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4. Treatment of Soil Sampl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Very similar to the soil sample treatme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ize fraction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3-5. Rock Sample Collection &amp; Preparatio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1. General Considering Factor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Rock typ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Weather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Grain size: generally sample size should be 60 times larger than the grain size ex) &lt;1/16cm </a:t>
            </a: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 3*4*1 cm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tructure &amp; textur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2. Collection Method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Hamm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ore sampl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hiesl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2-2. Collection &amp; Pretreatment of Water Sample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Water samples?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Surface water (Streams, lakes, springs, etc.)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Groundwater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Meteoric water (rain, snow, fog, etc)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Others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Considering factors of water sampling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Variable properties responding to a number of surrounding conditions such as T, P, time, biota, geology, etc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Should consider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Water type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Parameters measured in the field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quired pretreat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Geological &amp; Hydrological conditions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Temporal &amp; spatial variation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Others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440"/>
            <a:ext cx="2890800" cy="1582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lnSpc>
                <a:spcPct val="8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rbel"/>
              </a:rPr>
              <a:t>Methods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Scooping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Grab sampling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Bailor / Bomb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Pumping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9" name="Picture 2" descr="http://www.korearth.net/lecture/geochem/gchem_anal/ch03/w_scoop.jpg"/>
          <p:cNvPicPr/>
          <p:nvPr/>
        </p:nvPicPr>
        <p:blipFill>
          <a:blip r:embed="rId2"/>
          <a:stretch/>
        </p:blipFill>
        <p:spPr>
          <a:xfrm>
            <a:off x="3419640" y="1773360"/>
            <a:ext cx="1285560" cy="12859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http://www.korearth.net/lecture/geochem/gchem_anal/ch03/bailer1.gif"/>
          <p:cNvPicPr/>
          <p:nvPr/>
        </p:nvPicPr>
        <p:blipFill>
          <a:blip r:embed="rId3"/>
          <a:stretch/>
        </p:blipFill>
        <p:spPr>
          <a:xfrm>
            <a:off x="3059280" y="2997360"/>
            <a:ext cx="1820520" cy="36986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8" descr="http://www.korearth.net/lecture/geochem/gchem_anal/ch03/w_bomb.gif"/>
          <p:cNvPicPr/>
          <p:nvPr/>
        </p:nvPicPr>
        <p:blipFill>
          <a:blip r:embed="rId4"/>
          <a:stretch/>
        </p:blipFill>
        <p:spPr>
          <a:xfrm>
            <a:off x="826920" y="3573360"/>
            <a:ext cx="2219400" cy="27432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http://www.korearth.net/lecture/geochem/gchem_anal/ch03/s_pump2.jpg"/>
          <p:cNvPicPr/>
          <p:nvPr/>
        </p:nvPicPr>
        <p:blipFill>
          <a:blip r:embed="rId5"/>
          <a:stretch/>
        </p:blipFill>
        <p:spPr>
          <a:xfrm>
            <a:off x="6084720" y="3716280"/>
            <a:ext cx="2876760" cy="2914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http://www.korearth.net/lecture/geochem/gchem_anal/ch03/w_grab.jpg"/>
          <p:cNvPicPr/>
          <p:nvPr/>
        </p:nvPicPr>
        <p:blipFill>
          <a:blip r:embed="rId6"/>
          <a:stretch/>
        </p:blipFill>
        <p:spPr>
          <a:xfrm>
            <a:off x="4859280" y="1844640"/>
            <a:ext cx="237672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4800"/>
            <a:ext cx="8229600" cy="20145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rbel"/>
              </a:rPr>
              <a:t>Pretreatment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Filtration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 Removal of SS &amp; (microbes),  with 0.1, 0.2 or 0.4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m pore membran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Acidification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 Prohibiting pptn of the DS, with HNO3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Sterilization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 Killing all the microbes, with HgCl2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Refrigeration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 Supress microbial activity at 4C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6" name="Picture 2" descr="http://www.korearth.net/lecture/geochem/gchem_anal/ch03/filter_app.jpg"/>
          <p:cNvPicPr/>
          <p:nvPr/>
        </p:nvPicPr>
        <p:blipFill>
          <a:blip r:embed="rId2"/>
          <a:stretch/>
        </p:blipFill>
        <p:spPr>
          <a:xfrm>
            <a:off x="1476360" y="3716280"/>
            <a:ext cx="3017880" cy="30178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http://www.korearth.net/lecture/geochem/gchem_anal/ch03/hand_vac.jpg"/>
          <p:cNvPicPr/>
          <p:nvPr/>
        </p:nvPicPr>
        <p:blipFill>
          <a:blip r:embed="rId3"/>
          <a:stretch/>
        </p:blipFill>
        <p:spPr>
          <a:xfrm>
            <a:off x="4500720" y="3860640"/>
            <a:ext cx="39146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3-3. Soil Sample Collection &amp; Preparatio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1. General Considering Factor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oil typ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oil profil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Parents &amp; local geology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Plant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Land us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2. Collection Method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hovel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oil core sampl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Aug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oil moisture sampl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ustomized personalized devic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4" descr="hand1_l-soil-sampling-auger-water-level"/>
          <p:cNvPicPr/>
          <p:nvPr/>
        </p:nvPicPr>
        <p:blipFill>
          <a:blip r:embed="rId1"/>
          <a:stretch/>
        </p:blipFill>
        <p:spPr>
          <a:xfrm>
            <a:off x="250920" y="260280"/>
            <a:ext cx="4286160" cy="43243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10_b"/>
          <p:cNvPicPr/>
          <p:nvPr/>
        </p:nvPicPr>
        <p:blipFill>
          <a:blip r:embed="rId2"/>
          <a:stretch/>
        </p:blipFill>
        <p:spPr>
          <a:xfrm>
            <a:off x="395280" y="4000680"/>
            <a:ext cx="1905120" cy="28573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23_Soil-Sampling_3col"/>
          <p:cNvPicPr/>
          <p:nvPr/>
        </p:nvPicPr>
        <p:blipFill>
          <a:blip r:embed="rId3"/>
          <a:stretch/>
        </p:blipFill>
        <p:spPr>
          <a:xfrm>
            <a:off x="4714920" y="404640"/>
            <a:ext cx="4429080" cy="2810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0" descr="VL_sampler"/>
          <p:cNvPicPr/>
          <p:nvPr/>
        </p:nvPicPr>
        <p:blipFill>
          <a:blip r:embed="rId4"/>
          <a:stretch/>
        </p:blipFill>
        <p:spPr>
          <a:xfrm>
            <a:off x="3851280" y="3408480"/>
            <a:ext cx="508788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3. Sampling Desig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Barbell clust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Nested Cell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tratified vs. unstratified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4. Treatment of Soil Sampl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Dry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iev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Removal of organic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Grind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4" descr="image008"/>
          <p:cNvPicPr/>
          <p:nvPr/>
        </p:nvPicPr>
        <p:blipFill>
          <a:blip r:embed="rId1"/>
          <a:stretch/>
        </p:blipFill>
        <p:spPr>
          <a:xfrm>
            <a:off x="684360" y="1989000"/>
            <a:ext cx="3744720" cy="30448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mt89illust1"/>
          <p:cNvPicPr/>
          <p:nvPr/>
        </p:nvPicPr>
        <p:blipFill>
          <a:blip r:embed="rId2"/>
          <a:stretch/>
        </p:blipFill>
        <p:spPr>
          <a:xfrm>
            <a:off x="5364000" y="206064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328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3-4. Sediment Sample Collection &amp; Preparatio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1. General Considering Factor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patial (horizontal) vari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Vertical (depth) vari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ize distribu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Temporal vari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edimentation mechanism (sedimentation media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Disturbance by sampl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Parental rock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2. Collection Method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Grab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ore sampl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ustomized personalized devic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1:44:53Z</dcterms:created>
  <dc:creator>user</dc:creator>
  <dc:description/>
  <dc:language>en-US</dc:language>
  <cp:lastModifiedBy>user</cp:lastModifiedBy>
  <dcterms:modified xsi:type="dcterms:W3CDTF">2011-11-14T23:57:18Z</dcterms:modified>
  <cp:revision>27</cp:revision>
  <dc:subject/>
  <dc:title>Ch. 2. BASICS of GEOCHEMICAL ANALYSIS</dc:title>
</cp:coreProperties>
</file>